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1F7-3A6B-4708-A79E-0AAA6FBD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1D6-E875-4AE3-8043-FC860375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4EB-F917-4EF6-BA7B-10777540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12F-E44B-4517-BDC6-A7B06A47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4709-58CB-4381-BBC1-E1B724F7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36E4-F56E-42F3-B3BD-096C4EF6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2732-E89F-4944-B959-089710A3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89C6-57FD-4661-9732-F2DBD713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168A-23CE-4A46-A1BB-8516FBAA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309E-3A5C-44F9-8678-2B83A102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F383-9746-46A3-B70B-BEA354D9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040-C3AA-4B57-8919-EC910D31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6A1E-B05E-4217-9D05-26CBF555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AA6C-7F0D-4C78-B024-2F012F1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5142-C1C0-41D3-A257-E621FFC6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6304-ED20-4FEE-AEB0-C9567917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35F4-2C74-4288-B7D9-29F739E7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5E3-B206-4CED-BA87-73FDFEF8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FB1-29B4-4EC3-A840-49F89252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593-C362-4D29-B44D-AC760EC3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DC0-5877-4C33-B827-1CCAA356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755-99CD-40DD-9F15-E1F616D0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0DA-E53C-46EC-A25B-D445FA0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046-BB9C-4ED3-8DD7-85973F77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99ff99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493D-B564-4140-92F9-836E1DC784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99ff99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2ed5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d5ab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9935-BA96-4E19-8DE9-1A1716F91A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5616360" cy="267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Bookman Old Style"/>
              </a:rPr>
              <a:t>Роль отца в воспитании ребенк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779640" y="4437000"/>
            <a:ext cx="4824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99"/>
                </a:solidFill>
                <a:latin typeface="Bookman Old Style"/>
              </a:rPr>
              <a:t>Когда отец становится отцом, он становится сыном самому себ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99"/>
                </a:solidFill>
                <a:latin typeface="Bookman Old Style"/>
              </a:rPr>
              <a:t>Геракли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Bookman Old Style"/>
              </a:rPr>
              <a:t>Папа </a:t>
            </a: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– это человек, который в зависимости от ситуации испытывает разные чувства по отношению к своему ребенку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Bookman Old Style"/>
              </a:rPr>
              <a:t>Иногда ощущает моральное, «корыстное» удовлетворение и гордость от мысли, что у него есть малыш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Bookman Old Style"/>
              </a:rPr>
              <a:t>Есть страх перед будущим и чувство ответственности. Хочется оградить ребенка от неприят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Bookman Old Style"/>
              </a:rPr>
              <a:t>В семье нужны обязательно 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Bookman Old Style"/>
              </a:rPr>
              <a:t>и папа, и мама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Только </a:t>
            </a:r>
            <a:r>
              <a:rPr b="1" lang="ru-RU" sz="3200" spc="-1" strike="noStrike">
                <a:solidFill>
                  <a:srgbClr val="ff0066"/>
                </a:solidFill>
                <a:latin typeface="Bookman Old Style"/>
              </a:rPr>
              <a:t>сочетание</a:t>
            </a: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 этих качеств формирует полноценную лич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 rot="344400">
            <a:off x="916560" y="2421000"/>
            <a:ext cx="3114360" cy="1557000"/>
          </a:xfrm>
          <a:prstGeom prst="rect">
            <a:avLst/>
          </a:prstGeom>
          <a:noFill/>
          <a:ln w="9360">
            <a:solidFill>
              <a:srgbClr val="8e5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мужеств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силу вол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умение бороться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  </a:t>
            </a: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побежд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 rot="21068400">
            <a:off x="5060160" y="2349360"/>
            <a:ext cx="3137400" cy="1557000"/>
          </a:xfrm>
          <a:prstGeom prst="rect">
            <a:avLst/>
          </a:prstGeom>
          <a:noFill/>
          <a:ln w="9360">
            <a:solidFill>
              <a:srgbClr val="8e5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ласк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неж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доброту и чутк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к люд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987640" y="1628640"/>
            <a:ext cx="37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Bookman Old Style"/>
              </a:rPr>
              <a:t>От них дети получают</a:t>
            </a:r>
            <a:r>
              <a:rPr b="0" lang="ru-RU" sz="1800" spc="-1" strike="noStrike">
                <a:solidFill>
                  <a:srgbClr val="cc33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260"/>
                            </p:stCondLst>
                            <p:childTnLst>
                              <p:par>
                                <p:cTn id="2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2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ff"/>
                </a:solidFill>
                <a:latin typeface="Bookman Old Style"/>
              </a:rPr>
              <a:t>В жизни мы – гениальные актеры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С самого рождения мы приучаемся играть одновременно множество ролей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Сын-Дочь, Брат-Сестра, Внук-Внучка, Друг-Подруга, Школьник-Школьница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Сотрудник, Товарищ, Начальник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Жена-Муж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Но самые значимые рол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для женщины – роль </a:t>
            </a:r>
            <a:r>
              <a:rPr b="1" lang="ru-RU" sz="3000" spc="-1" strike="noStrike">
                <a:solidFill>
                  <a:srgbClr val="008080"/>
                </a:solidFill>
                <a:latin typeface="Bookman Old Style"/>
              </a:rPr>
              <a:t>МАМЫ</a:t>
            </a: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а для мужчины – роль </a:t>
            </a:r>
            <a:r>
              <a:rPr b="1" lang="ru-RU" sz="3000" spc="-1" strike="noStrike">
                <a:solidFill>
                  <a:srgbClr val="008080"/>
                </a:solidFill>
                <a:latin typeface="Bookman Old Style"/>
              </a:rPr>
              <a:t>ПАПЫ</a:t>
            </a:r>
            <a:r>
              <a:rPr b="0" lang="ru-RU" sz="3000" spc="-1" strike="noStrike">
                <a:solidFill>
                  <a:srgbClr val="008080"/>
                </a:solidFill>
                <a:latin typeface="Bookman Old Style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99"/>
                </a:solidFill>
                <a:latin typeface="Bookman Old Style"/>
              </a:rPr>
              <a:t>Кто такой папа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профессионал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психолог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учител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руководител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спортсмен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Bookman Old Style"/>
              </a:rPr>
              <a:t>Папа-врач?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99"/>
                </a:solidFill>
                <a:latin typeface="Bookman Old Style"/>
              </a:rPr>
              <a:t>«Папа – это…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7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7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7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7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7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7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7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Bookman Old Style"/>
              </a:rPr>
              <a:t>Итак, папа – это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Глава семьи. Верно? Как правил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Кормилец, добытчик. Верно? Отчаст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Пример для подражания. Верно? Хотелось бы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Папа – это…так и хочется сказать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Bookman Old Style"/>
              </a:rPr>
              <a:t>«Папа – это ПАП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Bookman Old Style"/>
              </a:rPr>
              <a:t>... Папа – это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Любовь, надежда и опора мамы. О! Это особая тем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Для детей – глыба, скала, чье слово весомо, но кто любит их такими, какие они есть, а если и ругается, то на их неправильные поступки, а не на них самих. В идеале – да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Вечно занятый уставший человек, у которого никогда нет времени, чтобы пообщаться с детьми. Верно? И это тож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Bookman Old Style"/>
              </a:rPr>
              <a:t>Или мифическое существо, человек-легенда, который уходит на работу, когда дети еще спят, и возвращается, когда они уже спят. Или месяцами пропадает в командировках. Быва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Bookman Old Style"/>
              </a:rPr>
              <a:t>Папа – это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В первую очередь папа – это </a:t>
            </a:r>
            <a:r>
              <a:rPr b="1" lang="ru-RU" sz="3200" spc="-1" strike="noStrike">
                <a:solidFill>
                  <a:srgbClr val="ff0066"/>
                </a:solidFill>
                <a:latin typeface="Bookman Old Style"/>
              </a:rPr>
              <a:t>пример.</a:t>
            </a: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 Основы воспитания закладываются в семье, и какой будет пример для наших детей, такими они и выраст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Bookman Old Style"/>
              </a:rPr>
              <a:t>Папы! Давайте вести себя так, чтобы потом не пришлось «Пенять на зеркало», т.е. на своих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ff"/>
                </a:solidFill>
                <a:latin typeface="Bookman Old Style"/>
              </a:rPr>
              <a:t>Папа</a:t>
            </a: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– это </a:t>
            </a:r>
            <a:r>
              <a:rPr b="0" lang="ru-RU" sz="2800" spc="-1" strike="noStrike">
                <a:solidFill>
                  <a:srgbClr val="ff0066"/>
                </a:solidFill>
                <a:latin typeface="Bookman Old Style"/>
              </a:rPr>
              <a:t>ответственность, любовь, спокойствие, ум, честь, совесть, радость, строгость, деньги, еда, машина, конь, веселье, злость, оптимизм, продукты жизнеобеспечения, доброта, нежность, друг, учитель, пример, опора, сила, опыт, правила, наказания, подарки, защита, стройка, дача, рыбалка, карты, домино, работа, «дела», «… тебе еще рано знать» и еще многое, многое другое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2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2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2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80"/>
                </a:solidFill>
                <a:latin typeface="Bookman Old Style"/>
              </a:rPr>
              <a:t>Папа </a:t>
            </a:r>
            <a:r>
              <a:rPr b="0" lang="ru-RU" sz="4000" spc="-1" strike="noStrike">
                <a:solidFill>
                  <a:srgbClr val="008080"/>
                </a:solidFill>
                <a:latin typeface="Bookman Old Style"/>
              </a:rPr>
              <a:t>– это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Bookman Old Style"/>
              </a:rPr>
              <a:t>мудрость, отзывчивость </a:t>
            </a:r>
            <a:r>
              <a:rPr b="0" lang="ru-RU" sz="2400" spc="-1" strike="noStrike">
                <a:solidFill>
                  <a:srgbClr val="008080"/>
                </a:solidFill>
                <a:latin typeface="Bookman Old Style"/>
              </a:rPr>
              <a:t>(в идеале)</a:t>
            </a:r>
            <a:r>
              <a:rPr b="0" lang="ru-RU" sz="4000" spc="-1" strike="noStrike">
                <a:solidFill>
                  <a:srgbClr val="008080"/>
                </a:solidFill>
                <a:latin typeface="Bookman Old Style"/>
              </a:rPr>
              <a:t>, компромисс, твердость, решение и надеж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3:50:40Z</dcterms:created>
  <dc:creator>user</dc:creator>
  <dc:description/>
  <dc:language>en-US</dc:language>
  <cp:lastModifiedBy>HP</cp:lastModifiedBy>
  <dcterms:modified xsi:type="dcterms:W3CDTF">2020-11-05T07:18:20Z</dcterms:modified>
  <cp:revision>16</cp:revision>
  <dc:subject/>
  <dc:title>Роль отца в воспитании ребенка</dc:title>
</cp:coreProperties>
</file>